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5BB-468B-4744-98D6-E1F1B565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A3D-7A01-402A-B247-0C7B75ED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C84-1762-4C93-9E50-B92D502F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889-B797-4C34-A167-2AB4D7A4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D9C0-147E-42A7-B7BC-9BB3509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468E-ED7E-4F2E-82F1-363866EE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E6A2E-AD5D-45D3-8977-93D14C1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D18E1-ED7A-4CA1-B724-B8A5898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DFD92-7647-4220-8784-712C78D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9F6E5-4798-47C9-AB0E-9B12AF7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6215E-9F24-4B04-9EF4-02808E8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780-BA3D-4198-8CF5-FD350699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C2A40-0018-470F-AC3C-5F21691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7679-C2C4-4D44-BB42-B57C0E7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6A3F-E4F7-4301-B069-548B927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F75D-F38C-478C-8FE6-D4EF892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D0108-9532-4489-BE9A-AE0E3AF5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269-16B2-4547-9B76-B1E004B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AAC-4C83-4DE9-81C1-7447746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572-2451-4447-B8D3-ED843D18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8CF-698D-4790-B391-21D480A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F51-C5B9-4F71-96B9-84341AB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D20-ECD2-4FD3-A4AF-2272090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8D5-2385-4B13-859B-5AE3810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F46-C6B7-43B0-9784-820EF52CC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A87E-7418-4036-B7D2-D15AEBF60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eachingwithtlc.com/Teaching-with-TLC-Logo-2_no_words.gif&amp;imgrefurl=http://www.teachingwithtlc.com/Genderdifferences.html&amp;usg=__CeFagm5pmslcL0iYPUmDrCOIiJM=&amp;h=318&amp;w=284&amp;sz=10&amp;hl=en&amp;start=5&amp;tbnid=G3essISzQrxwyM:&amp;tbnh=118&amp;tbnw=105&amp;prev=/images%3Fq%3Dteaching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4.jordan.k12.ut.us/teacher_resources/different/fish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skazanjian.com/images/First%20Grade.gif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estville.k12.ok.us/Images/Faculty%2520Images/algebra.jpg&amp;imgrefurl=http://www.westville.k12.ok.us/Faculty/mcspadden/mcspadden.htm&amp;usg=__C9QY58CiCiB6cFOna2PSiowKedM=&amp;h=440&amp;w=650&amp;sz=23&amp;hl=en&amp;start=2&amp;tbnid=W6xvm139pajNYM:&amp;tbnh=93&amp;tbnw=137&amp;prev=/images%3Fq%3Dalgebra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cx.images-amazon.com/images/I/41FRWX7KE4L._SL500_AA240_.jpg&amp;imgrefurl=http://www.amazon.com/Using-Learning-Contracts-Individualizing-Structuring/dp/1555420168&amp;usg=__bdXjKPg9ewsf3nejJnVDMty5yV0=&amp;h=240&amp;w=240&amp;sz=12&amp;hl=en&amp;start=4&amp;tbnid=wZW74M1eP_6J1M:&amp;tbnh=110&amp;tbnw=110&amp;prev=/images%3Fq%3Dlearning%2Bcontracts%26gbv%3D2%26hl%3De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rogbearbar.com/images/img_menus.jpg&amp;imgrefurl=http://www.frogbearbar.com/pages/lunchmenu.htm&amp;usg=__veD5qiQxw7QWzKB1MndtCLyQnKo=&amp;h=421&amp;w=350&amp;sz=64&amp;hl=en&amp;start=10&amp;tbnid=ICyeK0nXPgLI0M:&amp;tbnh=125&amp;tbnw=104&amp;prev=/images%3Fq%3Dmenus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rm3.static.flickr.com/2295/1531777503_93a60e3188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cbe.net/schools/phs/Administration/MDastous/images/7A172461FC1E4D34AF6A0E242604433D.jpg&amp;imgrefurl=http://www.hcbe.net/schools/phs/Administration/MDastous/teacher.html&amp;usg=__YheSyvPSXZHeM0h41VAT6Oj-JyM=&amp;h=858&amp;w=1281&amp;sz=341&amp;hl=en&amp;start=1&amp;tbnid=C1Wqhkgj8g0a_M:&amp;tbnh=100&amp;tbnw=150&amp;prev=/images%3Fq%3Ddifferentiated%2Binstruction%26gbv%3D2%26hl%3Den%26sa%3DX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urodl.org/materials/contrib/1998/eden98/images/Mote.jpg&amp;imgrefurl=http://www.eurodl.org/materials/contrib/1998/eden98/Ljosa.html&amp;usg=__OtFogB9buRjAR3nkf9_gdzVYlwo=&amp;h=300&amp;w=420&amp;sz=12&amp;hl=en&amp;start=4&amp;tbnid=qOT3jlVkiaKCrM:&amp;tbnh=89&amp;tbnw=125&amp;prev=/images%3Fq%3Dteachers%2Brole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-scf.usc.edu/~sfelicia/teachers%2520plaque.jpg&amp;imgrefurl=http://joseph89lch.blogspot.com/2007_08_01_archive.html&amp;usg=__VTHidrYgHxtocdtKZ4xEJKZS0Xg=&amp;h=619&amp;w=800&amp;sz=95&amp;hl=en&amp;start=2&amp;tbnid=8wUJsy_fbmq6AM:&amp;tbnh=111&amp;tbnw=143&amp;prev=/images%3Fq%3Dteachers%2Brole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nrichingeinstein.com/index_files/image5061.jpg&amp;imgrefurl=http://enrichingeinstein.com/&amp;usg=__RnmADMh783ztXdNgGblRkjDye6o=&amp;h=425&amp;w=341&amp;sz=27&amp;hl=en&amp;start=10&amp;tbnid=VZadpN_TvbyrXM:&amp;tbnh=126&amp;tbnw=101&amp;prev=/images%3Fq%3Ddifferentiated%2Binstruction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iated Instr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erin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Patrick Oru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incipals of Differentiated Instr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pre-assessed to determine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work alone in pairs, groups, or individ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plan proactively to provide several learning 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provides support 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provide organization so learning is purposeful and not chaot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ncipl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continued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 takes responsibility for his/her own learning and demonstrates understanding through a student designed projec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acher must give clear instructions and shares responsibility with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, there is no right one way to differentiate, as long as the basic principles are getting through and being follow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18288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743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Grade 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flexible reading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 a weekly reading schedule and allow students to find their name on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w students to move to appointed parts of the room at times designated on the cha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the whole class will meet to listen to a story and talk about it or volunteer to read 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a small group meets with the teacher to work on decoding, comprehension strategies, or to share id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students will meet with their peers to read on a topic with mutual interest regardless of their reading readi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can read books alone that fit their reading level (books will be color cod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can meet with a reading partner to take turns reading (stronger student will help the weaker stud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3808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gh School 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pre-test and “compact-out” of a unit at any time during the first three days of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ho opt out do an independent investigation of math in the real world, given guidelines by the teacher, who works with them a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ho did not opt out receive whole group instruction, and then based on understanding divide into cooperative groups for practice, or will meet in a small group with the teacher for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class has finished the chapter everybody will meet for the mandatory two day review for th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304920"/>
            <a:ext cx="28954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ring In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e nature of the task, not the work l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o keep all students above water by adjusting challenge levels so all students can make sense of their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00600" y="4572000"/>
            <a:ext cx="3762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ering Form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Contr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Me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ization Pyram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Contr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enter into an independent study with an agreed upon set of tasks supporting the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038480"/>
            <a:ext cx="30481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Me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given choices of tasks in an unit for an assess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ust do one “entree”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two from “side dish” tas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do “dessert” for extra credit or enric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5105520"/>
            <a:ext cx="1752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b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ill receive a foam or poster board made cube that has a different task on each side; having a different level for each 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, given a topic, will then analyze it, describe it, compare it, associate it, apply it, and argue for or against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teacher tries to teacher some thing new to the class at the same time, chance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already know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will learn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hird will not get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two thirds of the kids are wasting thei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Scott Willis, ASCD Curriculum Update 1993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ization Pyram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ation pyramids are very versat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ome in many formats, have many possible sizes, and use many different promp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yramid of horizontal lines, then ask students at different readiness levels to respond to the tiered prompts as they interact with the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great prompts, not limited to use, a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, analogy, question, three attributes, cause and affect, reasons, arguments, opinion, insight, tools, sample, people, future of the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nge the Ver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echnique simply raises or lowers the level by changing the verb in your prom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ide betw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pr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e f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e again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88620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Tips To 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 need coherent lessons that are relevant, powerful, resourceful, and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curriculum pushes students beyond what is comfortable and e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offer encouragement to work up and go beyond their potent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know why you have been looking at the ocean during this present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48769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being on the ocean when you differentiate one 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exactly where students are at before taking them some where n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 your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st for varying degrees of dep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those who cant keep their heads abov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ify strategy as you 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 that there are different ways to reach the same dest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 Learned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iering is and exampl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fferentiating instruction is and how it is appl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t is important to different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things I have learned that I will be using in my classroom when I start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ope, Lisa.  Differentiated Instruction.  Radford City Schools.  Retrieved from www.rcps.org/RCPS/misc/Differentiated%20Instruction.ppt April 26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meli, Rick (2005) Summarization in any subject, ASCD, Alexandria, Virginia, p. 155-157.  retrieved from www.independence.k12.ia.us/public/summarization%20pyramid.rtf  April 26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2743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ifferentia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have different learning styles, skills, abilities, and strengt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make sense of ou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ccurs when the intimidation factor is mi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4343400"/>
            <a:ext cx="2971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eacher’s R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must begin with the assumption that different learners have different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s a variety of ways to express learning thus “reaching out” to each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and resources must be organized to avoid confusion and cha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04920"/>
            <a:ext cx="2743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More 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do not give more work to learners who are capable; instead the nature of the assignment is adjusted to fit the needs of that stud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complex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s in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038480"/>
            <a:ext cx="3504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Differentia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s with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adiness level are determined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ations with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est surve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3526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 Process and Produ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ifferentiating instruction, try to provide multiple routes to these three key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nt: what students actually lea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: how students go about making sense of ideas and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: demonstration of what they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 is student cen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given the opportunity to take increasing responsibility for their ow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udents to share responsibility allows a teacher to work with different groups or individuals for parts of the clas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etter prepares them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iation Blends Several Types of Instru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le-class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vidual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le grou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perative/collaborative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51:23Z</dcterms:created>
  <dc:creator> </dc:creator>
  <dc:description/>
  <dc:language>en-US</dc:language>
  <cp:lastModifiedBy> </cp:lastModifiedBy>
  <dcterms:modified xsi:type="dcterms:W3CDTF">2009-04-28T19:22:40Z</dcterms:modified>
  <cp:revision>18</cp:revision>
  <dc:subject/>
  <dc:title>Slide 1</dc:title>
</cp:coreProperties>
</file>